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549D-1522-416C-916E-E2C48656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2BD-9AB2-4921-9FA9-2411CF3E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2F5-3CAE-425E-85BF-409E2E13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961-340C-4F49-9460-62870E0C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41D-B0BE-4959-822E-7D414F0E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E0FA-0782-4062-B8D2-3C0C1B18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97B-1775-47F4-B395-F313F406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20B1-DE6E-4FE5-9858-9FEDB9C8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E79-1353-4F14-8DAB-ECE2C962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6E99-0991-4BBF-BA5E-AC5B6F0E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F32-B85F-4FAD-8E73-36BCCAC5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EC5-6060-4E9D-AE70-0703AAC4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5760-0956-4385-9961-9E4552FB3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eopardy.com/index.ph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8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19.xml"/><Relationship Id="rId7" Type="http://schemas.openxmlformats.org/officeDocument/2006/relationships/slide" Target="slide5.xml"/><Relationship Id="rId8" Type="http://schemas.openxmlformats.org/officeDocument/2006/relationships/slide" Target="slide10.xml"/><Relationship Id="rId9" Type="http://schemas.openxmlformats.org/officeDocument/2006/relationships/slide" Target="slide20.xml"/><Relationship Id="rId10" Type="http://schemas.openxmlformats.org/officeDocument/2006/relationships/slide" Target="slide6.xml"/><Relationship Id="rId11" Type="http://schemas.openxmlformats.org/officeDocument/2006/relationships/slide" Target="slide11.xml"/><Relationship Id="rId12" Type="http://schemas.openxmlformats.org/officeDocument/2006/relationships/slide" Target="slide21.xml"/><Relationship Id="rId13" Type="http://schemas.openxmlformats.org/officeDocument/2006/relationships/slide" Target="slide7.xml"/><Relationship Id="rId14" Type="http://schemas.openxmlformats.org/officeDocument/2006/relationships/slide" Target="slide12.xml"/><Relationship Id="rId15" Type="http://schemas.openxmlformats.org/officeDocument/2006/relationships/slide" Target="slide22.xml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JEOPARDY! America's Favorite Sho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838080"/>
            <a:ext cx="8686800" cy="1667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2666880"/>
            <a:ext cx="88394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be divided into 4 tea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will pick which group goes fir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ams will rotate the chance to pick a c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team answers a question incorrectly, the remaining 3 teams will have a chance to answer.  The first team to raise their hand gets the first chance.  (Don’t shout out the answer or you will give it away to another team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lue of the question determines the amount added to or taken away from the team’s s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s will have 1 minute to answer the ques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 members will be allowed to use calculators, but not notes, text book, or any other reference mater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inning team will be allowed to leave the classroom first at the end of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0" y="54864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8288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situation when there is no horizontal asympto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09680" y="5791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44792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of the horizontal asymptote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81080" y="2895480"/>
                <a:ext cx="51372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0" y="5867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of the horizontal asymptote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133720" y="2743200"/>
                <a:ext cx="506088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8280" y="5867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9144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east common denominator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057400" y="2514600"/>
                <a:ext cx="4978440" cy="24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5791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9144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east common denominator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057400" y="2514600"/>
                <a:ext cx="5486400" cy="22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0" y="5791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9907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east common denominator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2120" y="2590920"/>
                <a:ext cx="7543800" cy="20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0968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1430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east common denominator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447920" y="2666880"/>
                <a:ext cx="6019560" cy="192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36232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9907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east common denominator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7200" y="2514600"/>
                <a:ext cx="8381880" cy="21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09680" y="5791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60020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x-values for which a function is vali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0" y="5638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160020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y-values for a functi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914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14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914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914400"/>
            <a:ext cx="167616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914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057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200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441972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5638680"/>
            <a:ext cx="1676520" cy="106704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441972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3200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2057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5638680"/>
            <a:ext cx="1676520" cy="106704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3200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3200400"/>
            <a:ext cx="167616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4419720"/>
            <a:ext cx="167616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5638680"/>
            <a:ext cx="1676160" cy="106704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057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3200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441972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5638680"/>
            <a:ext cx="1676520" cy="106704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2057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2057400"/>
            <a:ext cx="167616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441972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5638680"/>
            <a:ext cx="1676520" cy="106704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28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tical Asymptotes and h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28600"/>
            <a:ext cx="1676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ympt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457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C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457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457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1143000"/>
            <a:ext cx="1676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1066680"/>
            <a:ext cx="1523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11430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066680"/>
            <a:ext cx="1524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3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1143000"/>
            <a:ext cx="1447920" cy="703440"/>
          </a:xfrm>
          <a:prstGeom prst="rect">
            <a:avLst/>
          </a:prstGeom>
          <a:solidFill>
            <a:srgbClr val="e0e0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286000"/>
            <a:ext cx="1523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4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2209680"/>
            <a:ext cx="1523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5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2209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2209680"/>
            <a:ext cx="16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6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2209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3429000"/>
            <a:ext cx="1676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7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429000"/>
            <a:ext cx="16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8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3526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3276720"/>
            <a:ext cx="1600200" cy="785880"/>
          </a:xfrm>
          <a:prstGeom prst="rect">
            <a:avLst/>
          </a:prstGeom>
          <a:solidFill>
            <a:srgbClr val="e0e0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9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3352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572000"/>
            <a:ext cx="1523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10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4572000"/>
            <a:ext cx="16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11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45720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572000"/>
            <a:ext cx="1524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12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45720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791320"/>
            <a:ext cx="16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13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5791320"/>
            <a:ext cx="16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14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5791320"/>
            <a:ext cx="16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15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5791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4419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438280" y="6019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838080"/>
            <a:ext cx="7696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relationship between a domain and a range such that each member of the domain corresponds to exactly one member of the rang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0" y="5867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14300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monomial or sum of terms that are monomial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36232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11430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s comes from a phrase in Greek meaning “doesn’t meet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2193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sult multiplying the facto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752480" y="2743200"/>
                <a:ext cx="51818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09680" y="5867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2952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sult of multiplying the facto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752480" y="2895480"/>
                <a:ext cx="53150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6232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1430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actors of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133720" y="2133720"/>
                <a:ext cx="419076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36232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8288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actors of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09680" y="2438280"/>
                <a:ext cx="403884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57913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447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actors of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057400" y="2590920"/>
                <a:ext cx="49784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09680" y="5867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295280"/>
            <a:ext cx="8001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of the hole of this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133720" y="2895480"/>
                <a:ext cx="4190760" cy="20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09680" y="5791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52388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of the vertical asymptote of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38280" y="3352680"/>
                <a:ext cx="434340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0" y="6095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2952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of the hole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14600" y="2971800"/>
                <a:ext cx="4114800" cy="26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29528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for the vertical asymptote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828800" y="2819520"/>
                <a:ext cx="5022720" cy="23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33720" y="6019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1430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of the vertical asymptotes of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133720" y="2743200"/>
                <a:ext cx="5029200" cy="27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5740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2193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of the horizontal asymptote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2666880"/>
                <a:ext cx="4997520" cy="24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362320" y="6095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0666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of the horizontal asymptote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09680" y="2666880"/>
                <a:ext cx="464832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39:02Z</dcterms:created>
  <dc:creator>HP Authorized Customer</dc:creator>
  <dc:description/>
  <dc:language>en-US</dc:language>
  <cp:lastModifiedBy>HP Authorized Customer</cp:lastModifiedBy>
  <dcterms:modified xsi:type="dcterms:W3CDTF">2009-03-22T23:56:26Z</dcterms:modified>
  <cp:revision>5</cp:revision>
  <dc:subject/>
  <dc:title>Slide 1</dc:title>
</cp:coreProperties>
</file>